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68963F-F225-4F73-96EE-460BAAEE3F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2032E9-BFDF-49B4-96A2-0D1C7E9F2E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DDD72F-0B4F-457F-88D5-C9BBF95CF3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23614A-5E4E-4A24-A81B-7F92448F95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D07C2F-BDB9-4A95-B337-7833B906DB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9F4A68-997E-4494-8616-E826485A08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42B975-EFB2-4716-A080-A949538698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5A9948-BD52-48F2-87CE-F6F08579CE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E60E71-66D0-4DFB-8EE1-06E31BB5AB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015BB2-65AA-4302-ABEF-36793F128E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E9890-9630-4FC6-A959-A137AA7692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7CC65-B49B-4442-9B62-2A985686AB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18912-D5C7-4E2A-AD30-AB7D06F8CB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ultimateglobes.com/v/vspfiles/map_images/european_claims.gif" TargetMode="External"/><Relationship Id="rId3" Type="http://schemas.openxmlformats.org/officeDocument/2006/relationships/hyperlink" Target="http://www.slideshare.net/ezlee2/the-navigation-acts-presentation"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youtube.com/watch?v=Yer7OfHyynU" TargetMode="Externa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Effects of the French and Indian War</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Maretta Morovitz</a:t>
            </a:r>
            <a:endParaRPr b="0" lang="en-US" sz="3200" spc="-1" strike="noStrike">
              <a:solidFill>
                <a:srgbClr val="000000"/>
              </a:solidFill>
              <a:latin typeface="Arial"/>
            </a:endParaRPr>
          </a:p>
        </p:txBody>
      </p:sp>
    </p:spTree>
  </p:cSld>
  <p:transition>
    <p:cover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onial Viewpoint</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opinion of colonial militar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ud of war recor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dent could provide for own defens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mpressed by GB military</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fare methods incompatible with American terrain (woods vs. open fields)</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k forward to settling new lands gained from war</a:t>
            </a:r>
            <a:endParaRPr b="0" lang="en-US" sz="32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cover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ult of these competing viewpoints</a:t>
            </a:r>
            <a:endParaRPr b="0" lang="en-US" sz="40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 of salutary neglec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ccupied by war and political turmoil in England, GB had little control over daily government in the colonies</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ed trade and Navigation Acts to go unenforced</a:t>
            </a:r>
            <a:endParaRPr b="0" lang="en-US" sz="24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War debts + cost of maintaining army in coloni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King George III and Whigs turns to colonies for funds </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cover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ntiac’s Rebellion</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763</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test of British Imperial Policy</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ef Pontiac led a major attack against the colonies in response to encroachment of colonial settlements on western frontie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iance of Native Americans in OH Valley destroy settlements – NY </a:t>
            </a:r>
            <a:r>
              <a:rPr b="0" lang="en-US" sz="3200" spc="-1" strike="noStrike">
                <a:solidFill>
                  <a:srgbClr val="000000"/>
                </a:solidFill>
                <a:latin typeface="Wingdings"/>
                <a:ea typeface="Wingdings"/>
              </a:rPr>
              <a:t></a:t>
            </a:r>
            <a:r>
              <a:rPr b="0" lang="en-US" sz="3200" spc="-1" strike="noStrike">
                <a:solidFill>
                  <a:srgbClr val="000000"/>
                </a:solidFill>
                <a:latin typeface="Arial"/>
              </a:rPr>
              <a:t> V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itish respond with British not colonial troop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lamation of 1763</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hibited colonial settlement west of Appalachian Mountai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B hoped this would prevent conflict between Natives and settl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nists enraged – eager to settle new lan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gnored Proclamation</a:t>
            </a:r>
            <a:endParaRPr b="0" lang="en-US" sz="3200" spc="-1" strike="noStrike">
              <a:solidFill>
                <a:srgbClr val="000000"/>
              </a:solidFill>
              <a:latin typeface="Arial"/>
            </a:endParaRPr>
          </a:p>
        </p:txBody>
      </p:sp>
    </p:spTree>
  </p:cSld>
  <p:transition>
    <p:cover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de and Navigation Acts</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51, 1660, 1663, 1673</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orts to England only on English of colonial-built shi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ws must be English or colonia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rtain exports only to England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enumerated good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iginally only tobacco, but list later expanded to most colonial export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rect tax on certain goo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 smuggling</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salutary neglect-British look the other way, and many British agents = corrup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salutary neglect-British take a stronger stance to enforce acts </a:t>
            </a:r>
            <a:r>
              <a:rPr b="0" lang="en-US" sz="2000" spc="-1" strike="noStrike">
                <a:solidFill>
                  <a:srgbClr val="000000"/>
                </a:solidFill>
                <a:latin typeface="Wingdings"/>
                <a:ea typeface="Wingdings"/>
              </a:rPr>
              <a:t></a:t>
            </a:r>
            <a:r>
              <a:rPr b="0" lang="en-US" sz="2000" spc="-1" strike="noStrike">
                <a:solidFill>
                  <a:srgbClr val="000000"/>
                </a:solidFill>
                <a:latin typeface="Arial"/>
              </a:rPr>
              <a:t> 1684 repeal MA Bay charter</a:t>
            </a:r>
            <a:endParaRPr b="0" lang="en-US" sz="2000" spc="-1" strike="noStrike">
              <a:solidFill>
                <a:srgbClr val="000000"/>
              </a:solidFill>
              <a:latin typeface="Arial"/>
            </a:endParaRPr>
          </a:p>
        </p:txBody>
      </p:sp>
    </p:spTree>
  </p:cSld>
  <p:transition>
    <p:cover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Acts and Taxes</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gar (Revenue) Act – 1764</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x on suga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ise money for GB</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law </a:t>
            </a:r>
            <a:r>
              <a:rPr b="0" lang="en-US" sz="2400" spc="-1" strike="noStrike">
                <a:solidFill>
                  <a:srgbClr val="000000"/>
                </a:solidFill>
                <a:latin typeface="Wingdings"/>
                <a:ea typeface="Wingdings"/>
              </a:rPr>
              <a:t></a:t>
            </a:r>
            <a:r>
              <a:rPr b="0" lang="en-US" sz="2400" spc="-1" strike="noStrike">
                <a:solidFill>
                  <a:srgbClr val="000000"/>
                </a:solidFill>
                <a:latin typeface="Arial"/>
              </a:rPr>
              <a:t> Stricter stance on Navigation Acts – smugglers tried in admiralty courts w/o juri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rtering Act - 1765</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d and living for British soldier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mp Act – 1765</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 tax</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enue stamp on al legal documents, newspapers, ads, and other published paper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cover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ES IT ALL MEAN?</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rench and Indian War polarized GB and the colon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B in debt – turn to the colonies for financial help</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s and tax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nies not happy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OLUTION!</a:t>
            </a:r>
            <a:endParaRPr b="0" lang="en-US" sz="3200" spc="-1" strike="noStrike">
              <a:solidFill>
                <a:srgbClr val="000000"/>
              </a:solidFill>
              <a:latin typeface="Arial"/>
            </a:endParaRPr>
          </a:p>
        </p:txBody>
      </p:sp>
    </p:spTree>
  </p:cSld>
  <p:transition>
    <p:cover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s cited</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http://www.ultimateglobes.com/v/vspfiles/map_images/european_claims.gi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3"/>
              </a:rPr>
              <a:t>http://www.slideshare.net/ezlee2/the-navigation-acts-present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sco: Preparing for the AP History Exam</a:t>
            </a:r>
            <a:endParaRPr b="0" lang="en-US" sz="3200" spc="-1" strike="noStrike">
              <a:solidFill>
                <a:srgbClr val="000000"/>
              </a:solidFill>
              <a:latin typeface="Arial"/>
            </a:endParaRPr>
          </a:p>
        </p:txBody>
      </p:sp>
    </p:spTree>
  </p:cSld>
  <p:transition>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si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years following the French and Indian War, the period of salutary neglect ended, leading to increased regulations and taxes on the colonies, and further deteriorating relations between the British Empire and her colonies.</a:t>
            </a:r>
            <a:endParaRPr b="0" lang="en-US" sz="3200" spc="-1" strike="noStrike">
              <a:solidFill>
                <a:srgbClr val="000000"/>
              </a:solidFill>
              <a:latin typeface="Arial"/>
            </a:endParaRPr>
          </a:p>
        </p:txBody>
      </p:sp>
    </p:spTree>
  </p:cSld>
  <p:transition>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War</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nch and Indian Wa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te 17</a:t>
            </a:r>
            <a:r>
              <a:rPr b="0" lang="en-US" sz="2800" spc="-1" strike="noStrike" baseline="30000">
                <a:solidFill>
                  <a:srgbClr val="000000"/>
                </a:solidFill>
                <a:latin typeface="Arial"/>
              </a:rPr>
              <a:t>th</a:t>
            </a:r>
            <a:r>
              <a:rPr b="0" lang="en-US" sz="2800" spc="-1" strike="noStrike">
                <a:solidFill>
                  <a:srgbClr val="000000"/>
                </a:solidFill>
                <a:latin typeface="Arial"/>
              </a:rPr>
              <a:t> Cent. = War between French, Spanish, English</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ies of wars – worldwide (1689-1763)</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war (fighting begins in colonies and spreads to Europ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onies = French and Indian War</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urope = Seven Years’ War</a:t>
            </a:r>
            <a:endParaRPr b="0" lang="en-US" sz="2400" spc="-1" strike="noStrike">
              <a:solidFill>
                <a:srgbClr val="000000"/>
              </a:solidFill>
              <a:latin typeface="Arial"/>
            </a:endParaRPr>
          </a:p>
        </p:txBody>
      </p:sp>
    </p:spTree>
  </p:cSld>
  <p:transition>
    <p:cover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War (Cont.)</a:t>
            </a:r>
            <a:endParaRPr b="0" lang="en-US" sz="4400" spc="-1" strike="noStrike">
              <a:solidFill>
                <a:srgbClr val="000000"/>
              </a:solidFill>
              <a:latin typeface="Arial"/>
            </a:endParaRPr>
          </a:p>
        </p:txBody>
      </p:sp>
      <p:sp>
        <p:nvSpPr>
          <p:cNvPr id="48"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 &amp; I War beginn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itish believe French provoke – forts in Ohio River Valle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lly bad for British</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eats in Virginia and  Canada</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bany Plan of Union – coordinated colonial defense </a:t>
            </a:r>
            <a:r>
              <a:rPr b="0" lang="en-US" sz="2800" spc="-1" strike="noStrike">
                <a:solidFill>
                  <a:srgbClr val="000000"/>
                </a:solidFill>
                <a:latin typeface="Wingdings"/>
                <a:ea typeface="Wingdings"/>
              </a:rPr>
              <a:t></a:t>
            </a:r>
            <a:r>
              <a:rPr b="0" lang="en-US" sz="2800" spc="-1" strike="noStrike">
                <a:solidFill>
                  <a:srgbClr val="000000"/>
                </a:solidFill>
                <a:latin typeface="Arial"/>
              </a:rPr>
              <a:t> precedent for later ac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 &amp; I War En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ntration on Canad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ace of Paris </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B gets French Canada and Spanish FL.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ance gives Spain Louisiana and claims West of Mississippi River</a:t>
            </a:r>
            <a:endParaRPr b="0" lang="en-US" sz="2000" spc="-1" strike="noStrike">
              <a:solidFill>
                <a:srgbClr val="000000"/>
              </a:solidFill>
              <a:latin typeface="Arial"/>
            </a:endParaRPr>
          </a:p>
        </p:txBody>
      </p:sp>
    </p:spTree>
  </p:cSld>
  <p:transition>
    <p:cover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deo</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http://www.youtube.com/watch?v=Yer7OfHyyn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vimeo.com/42242301</a:t>
            </a:r>
            <a:endParaRPr b="0" lang="en-US" sz="3200" spc="-1" strike="noStrike">
              <a:solidFill>
                <a:srgbClr val="000000"/>
              </a:solidFill>
              <a:latin typeface="Arial"/>
            </a:endParaRPr>
          </a:p>
        </p:txBody>
      </p:sp>
    </p:spTree>
  </p:cSld>
  <p:transition>
    <p:cover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ffects of F &amp; I War on European Nations</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B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hallenged control of North America </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land east of the Mississippi River, and much of present-day Canada</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ful nav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d threat of attacks by French, Spanish, and Native American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ance &amp; Spai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i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in gave Florida to GB</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compensate, France gave Spain the Louisiana territory</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ance left with only islands close to Canada and in the Caribbean</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cover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5" name="" descr=""/>
          <p:cNvPicPr/>
          <p:nvPr/>
        </p:nvPicPr>
        <p:blipFill>
          <a:blip r:embed="rId2"/>
          <a:stretch/>
        </p:blipFill>
        <p:spPr>
          <a:xfrm>
            <a:off x="0" y="0"/>
            <a:ext cx="9524880" cy="7015320"/>
          </a:xfrm>
          <a:prstGeom prst="rect">
            <a:avLst/>
          </a:prstGeom>
          <a:ln w="0">
            <a:noFill/>
          </a:ln>
        </p:spPr>
      </p:pic>
    </p:spTree>
  </p:cSld>
  <p:transition>
    <p:cover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ffects of F &amp; I War on Colonie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my needed suppli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ron workers, shipbuilders, and famers profited</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nies gain FL</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longer refuge for escaped slave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lands, free from old enemies, open to exploration and settlem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r record = sense of unity and pride for colonists</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itish viewpoint</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w opinion of American militar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orly train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orderl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ld not defend new expanded frontie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e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ome colonies did not contribute troops or mone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war debt</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7T14:08:01Z</dcterms:created>
  <dc:creator> </dc:creator>
  <dc:description/>
  <dc:language>en-US</dc:language>
  <cp:lastModifiedBy>epilla</cp:lastModifiedBy>
  <dcterms:modified xsi:type="dcterms:W3CDTF">2012-10-05T17:29:08Z</dcterms:modified>
  <cp:revision>9</cp:revision>
  <dc:subject/>
  <dc:title>Slide 1</dc:title>
</cp:coreProperties>
</file>